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E3C4-5963-4E92-8516-39522E12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EFA3-E500-4FD4-BC21-E887D0F3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5114-FBFF-4FB6-9EE4-09077CC18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B105-F36B-4621-ABF7-03472ED3A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4D2E-80C8-419D-9AF2-D3F688CE1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7415-AF23-40C1-846D-A09B3170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D1E4-7086-4223-8734-4F4A83B5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BDA3-427C-459E-8A5D-13B6B74E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EF2E-A59A-4BF4-BDFB-564A8507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63A7-254C-41F6-91CE-61C6662A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00C2-5A4D-4212-9DDE-4F8F075F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E05A-4F09-4DD2-A3FC-DE3D1C59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F384-B0BA-4785-976F-B6FA6EE2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CE44-D733-4C2E-9AD0-0F54D5F0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A563-08D3-4A87-BD14-9A382F6F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B453-6DB7-4353-9902-4F753CC9A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18F3-D021-46C9-A2A4-63777FC6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5B54-CBBE-4A4A-898E-0DAA325B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72E4-62C4-4BC6-9564-7AB35B7A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B948-05DC-482F-A6E1-A44FA437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9F48-32AC-46C8-BDF1-688EF324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2952-B519-4D11-9403-CEB92507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6B10-CF11-47D2-8E40-18ABE7C4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8763-401C-4925-8BDD-4D74BC6E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2293-3097-4255-BB5A-21BF5DAD51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06A0-635D-44F8-93E5-DD7575F97D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hapter 6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son 3: Conditioning Goals and Techn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Keeping Records, p. 162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ing track of your conditioning program helps you stay aware of your progress. As you improve, you can take pride in your accomplishm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gure 6.6 Conditioning Ch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ctivit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an individual fitness program specific to your nee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t include 4 weeks, with increasing intens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er to Figure 6.6 for help, p. 16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04920" y="990720"/>
          <a:ext cx="8381880" cy="4327560"/>
        </p:xfrm>
        <a:graphic>
          <a:graphicData uri="http://schemas.openxmlformats.org/drawingml/2006/table">
            <a:tbl>
              <a:tblPr/>
              <a:tblGrid>
                <a:gridCol w="2057400"/>
                <a:gridCol w="2173320"/>
                <a:gridCol w="2009520"/>
                <a:gridCol w="1040040"/>
                <a:gridCol w="1101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eec94"/>
                          </a:solidFill>
                          <a:latin typeface="Times New Roman"/>
                        </a:rPr>
                        <a:t>D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eec94"/>
                          </a:solidFill>
                          <a:latin typeface="Times New Roman"/>
                        </a:rPr>
                        <a:t>Exerci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eec94"/>
                          </a:solidFill>
                          <a:latin typeface="Times New Roman"/>
                        </a:rPr>
                        <a:t>Time/  Distanc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eec94"/>
                          </a:solidFill>
                          <a:latin typeface="Times New Roman"/>
                        </a:rPr>
                        <a:t>Se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eec94"/>
                          </a:solidFill>
                          <a:latin typeface="Times New Roman"/>
                        </a:rPr>
                        <a:t>Reps/ lb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/T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ench Press, Squa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/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lb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/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pri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 yd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i./Sund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sh-ups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t up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/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304920" y="1219320"/>
          <a:ext cx="8305200" cy="5437080"/>
        </p:xfrm>
        <a:graphic>
          <a:graphicData uri="http://schemas.openxmlformats.org/drawingml/2006/table">
            <a:tbl>
              <a:tblPr/>
              <a:tblGrid>
                <a:gridCol w="2464200"/>
                <a:gridCol w="2464200"/>
                <a:gridCol w="337680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D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Exerci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Time/Dista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nd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wimm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 lap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uesd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nn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hou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ednesd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alk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 mi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ursd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og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hou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id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ne (Day off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ne (Day off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turd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ik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 mi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nd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ik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mi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1600200" y="5335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ek 1: Cross-Training Fitness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ELL ACTIVIT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figure skater, a football player, and a sprin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hich of these might take ballet lessons as part of his or her training? Wh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Conditioning and Your Goals, p. 159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play a sport regularly, you’ll need time to get into shape for i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raining to get in shape is called condition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in other aspects of your life, you’ll need to set goals for your conditioning if you expect to accomplish anyth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ont’d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k yourself these question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my priorities? (What is most important to me? Fitness? Fun? Friendship? Improving specific skills? Excelling at the sport I have chosen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the demands of this sport? (What do my coach and teammates expect of me? How serious do I need to b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ill happen in the future? (What will be expected of me? How might my other responsibilities increase? Do I want to keep on playing this sport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Getting Good Advi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et appropriate goals, you may want to ask someone for advice. Your PE teacher, a coach, or possibly a family physician can give you good advice on how to get into condition for a particular s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gymnast needs strength, flexibility, and endurance to perform a variety of gymnastic routi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asketball player needs endurance, speed, and agility to handle the ball, as well as strength for shoo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restler needs strength, agility, flexiblity, and balanc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ross-Train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ross-training is any fitness program that includes a variety of physical activities to promote balanced fitn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play several sports, cross-training is essent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nefit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ss likely to get burned 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oid injury by strengthening and stretching complementary musc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r total health, including mental/emotional and social health as well as physical health, is improved by achieving overall fitness of your whole bod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voiding Overtraining, p. 161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’s great to be enthusiastic about getting into condition, but don’t overdo it. Too much exercise without enough rest can be harm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vertraining is exercising too hard or too often, without enough rest in between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gns of overtrain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normally high heart rate when not exerci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eling sore or tired all the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quent ill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turbed sleeping ha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ritability or inability to concent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quent muscle strain or inju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ow to avoid overtraining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at least one day off every wee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ring the rest of the week, alternate tough workout days with easy o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two months, reduce your exercise intensity for a wee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Figure 6.5 A Sample Cross-Training Program, p. 160-161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1422360" cy="17874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209680" y="2057400"/>
            <a:ext cx="1808280" cy="1774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343400" y="2057400"/>
            <a:ext cx="1517760" cy="1596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6248520" y="2133720"/>
            <a:ext cx="2255760" cy="1503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304920" y="4267080"/>
            <a:ext cx="1598400" cy="1824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2666880" y="4419720"/>
            <a:ext cx="1825920" cy="1527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5410080" y="4038480"/>
            <a:ext cx="164952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14:11:23Z</dcterms:created>
  <dc:creator>GSCS</dc:creator>
  <dc:description/>
  <dc:language>en-US</dc:language>
  <cp:lastModifiedBy>GSCS</cp:lastModifiedBy>
  <dcterms:modified xsi:type="dcterms:W3CDTF">2010-11-10T19:39:44Z</dcterms:modified>
  <cp:revision>14</cp:revision>
  <dc:subject/>
  <dc:title>Chapter 6</dc:title>
</cp:coreProperties>
</file>